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180-06C9-41CD-AD98-B6277DA2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395-2542-4563-9D7D-B28A33A7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AD6-EAED-4E4A-9E22-810D36E8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CEC-32DF-43EB-98AC-CCFAF9DA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FBE-E48C-49D3-9B8F-9AA3A9B6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462-03BE-4D54-994F-A36A32B3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9A3-33FF-4FC6-9ECB-C1003480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680-2F3E-4600-9E20-965B84AA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767-EB29-40F4-866E-64072E34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05E-C471-4901-9473-E2C7601F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60A-60E2-4A82-94DC-2A12DFFF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772-BA67-45FE-90F2-B0412224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F1C6-3CC6-4699-8EF2-FB2DFE7B12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3.jpeg"/><Relationship Id="rId5" Type="http://schemas.openxmlformats.org/officeDocument/2006/relationships/image" Target="../media/image23.jpeg"/><Relationship Id="rId6" Type="http://schemas.openxmlformats.org/officeDocument/2006/relationships/image" Target="../media/image19.pn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025680" y="5410080"/>
            <a:ext cx="27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: Юдина И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User\Desktop\slide-6.jpg"/>
          <p:cNvPicPr/>
          <p:nvPr/>
        </p:nvPicPr>
        <p:blipFill>
          <a:blip r:embed="rId1"/>
          <a:stretch/>
        </p:blipFill>
        <p:spPr>
          <a:xfrm>
            <a:off x="-468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User\Desktop\s1200.jpg"/>
          <p:cNvPicPr/>
          <p:nvPr/>
        </p:nvPicPr>
        <p:blipFill>
          <a:blip r:embed="rId1"/>
          <a:stretch/>
        </p:blipFill>
        <p:spPr>
          <a:xfrm>
            <a:off x="2819520" y="76320"/>
            <a:ext cx="4308480" cy="3808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2807640" y="392112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ажаемые родители и наши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52280" y="434340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здравляем Вас с праздником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есны и Труда, с 1 Мая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елаем чтобы тру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ыл посильным, достойным, облагораживающим, добросовестным, че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дрости Вам, эмоциональной насыщенности, результатов, идей, все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вёрдо идите по выбранному пути к намеченной цели, не боясь препятств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одолевая трудности. Пусть весеннее солнце радует Вас светом своих лучей и дарит только хорошее настро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уважением Ваши педаг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47920" y="25909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познакомиться с историей праздника. Развитие кругозора. Воспитание патриот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User\Desktop\Рисунок1.jpg"/>
          <p:cNvPicPr/>
          <p:nvPr/>
        </p:nvPicPr>
        <p:blipFill>
          <a:blip r:embed="rId1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Users\User\Desktop\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7" descr="C:\Users\User\Desktop\6-20.jpg"/>
          <p:cNvPicPr/>
          <p:nvPr/>
        </p:nvPicPr>
        <p:blipFill>
          <a:blip r:embed="rId2"/>
          <a:stretch/>
        </p:blipFill>
        <p:spPr>
          <a:xfrm>
            <a:off x="2825640" y="990720"/>
            <a:ext cx="3784680" cy="2773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C:\Users\User\Desktop\maxresdefault.jpg"/>
          <p:cNvPicPr/>
          <p:nvPr/>
        </p:nvPicPr>
        <p:blipFill>
          <a:blip r:embed="rId3"/>
          <a:stretch/>
        </p:blipFill>
        <p:spPr>
          <a:xfrm>
            <a:off x="533520" y="3959280"/>
            <a:ext cx="4235400" cy="2381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C:\Users\User\Desktop\1280px-Верной_дорогой_идёте,_товарищи!.jpg"/>
          <p:cNvPicPr/>
          <p:nvPr/>
        </p:nvPicPr>
        <p:blipFill>
          <a:blip r:embed="rId4"/>
          <a:stretch/>
        </p:blipFill>
        <p:spPr>
          <a:xfrm>
            <a:off x="5257800" y="3824280"/>
            <a:ext cx="3392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C:\Users\User\Desktop\52a3b05155964151d1cc6c97d4928431.jpg"/>
          <p:cNvPicPr/>
          <p:nvPr/>
        </p:nvPicPr>
        <p:blipFill>
          <a:blip r:embed="rId2"/>
          <a:stretch/>
        </p:blipFill>
        <p:spPr>
          <a:xfrm>
            <a:off x="2819520" y="844560"/>
            <a:ext cx="3352680" cy="2792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C:\Users\User\Desktop\dsc091.jpg"/>
          <p:cNvPicPr/>
          <p:nvPr/>
        </p:nvPicPr>
        <p:blipFill>
          <a:blip r:embed="rId3"/>
          <a:stretch/>
        </p:blipFill>
        <p:spPr>
          <a:xfrm>
            <a:off x="457200" y="3886200"/>
            <a:ext cx="3809880" cy="280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User\Desktop\tMgYql6FAiussjUtbuL7Qn6DaCu9NR7Z.jpg"/>
          <p:cNvPicPr/>
          <p:nvPr/>
        </p:nvPicPr>
        <p:blipFill>
          <a:blip r:embed="rId4"/>
          <a:stretch/>
        </p:blipFill>
        <p:spPr>
          <a:xfrm>
            <a:off x="4876920" y="3868560"/>
            <a:ext cx="38462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2" descr="ребусы"/>
          <p:cNvPicPr/>
          <p:nvPr/>
        </p:nvPicPr>
        <p:blipFill>
          <a:blip r:embed="rId1"/>
          <a:stretch/>
        </p:blipFill>
        <p:spPr>
          <a:xfrm>
            <a:off x="3365640" y="2286000"/>
            <a:ext cx="1904760" cy="1419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ребусы"/>
          <p:cNvPicPr/>
          <p:nvPr/>
        </p:nvPicPr>
        <p:blipFill>
          <a:blip r:embed="rId2"/>
          <a:stretch/>
        </p:blipFill>
        <p:spPr>
          <a:xfrm>
            <a:off x="3170160" y="2297160"/>
            <a:ext cx="203400" cy="141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ребусы"/>
          <p:cNvPicPr/>
          <p:nvPr/>
        </p:nvPicPr>
        <p:blipFill>
          <a:blip r:embed="rId3"/>
          <a:stretch/>
        </p:blipFill>
        <p:spPr>
          <a:xfrm>
            <a:off x="5510160" y="2282760"/>
            <a:ext cx="233280" cy="142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2560" y="6094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ребусы 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гадайт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шифрованные сл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8" descr="ребусы"/>
          <p:cNvPicPr/>
          <p:nvPr/>
        </p:nvPicPr>
        <p:blipFill>
          <a:blip r:embed="rId4"/>
          <a:stretch/>
        </p:blipFill>
        <p:spPr>
          <a:xfrm>
            <a:off x="1136520" y="4267080"/>
            <a:ext cx="1758960" cy="186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ребусы"/>
          <p:cNvPicPr/>
          <p:nvPr/>
        </p:nvPicPr>
        <p:blipFill>
          <a:blip r:embed="rId5"/>
          <a:stretch/>
        </p:blipFill>
        <p:spPr>
          <a:xfrm>
            <a:off x="5278320" y="2282760"/>
            <a:ext cx="231840" cy="142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ребусы"/>
          <p:cNvPicPr/>
          <p:nvPr/>
        </p:nvPicPr>
        <p:blipFill>
          <a:blip r:embed="rId6"/>
          <a:stretch/>
        </p:blipFill>
        <p:spPr>
          <a:xfrm>
            <a:off x="5743440" y="2241720"/>
            <a:ext cx="231840" cy="142236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457000" y="27385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612360" y="48006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ребусы"/>
          <p:cNvPicPr/>
          <p:nvPr/>
        </p:nvPicPr>
        <p:blipFill>
          <a:blip r:embed="rId7"/>
          <a:stretch/>
        </p:blipFill>
        <p:spPr>
          <a:xfrm>
            <a:off x="2876400" y="4218120"/>
            <a:ext cx="1209960" cy="190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ребусы"/>
          <p:cNvPicPr/>
          <p:nvPr/>
        </p:nvPicPr>
        <p:blipFill>
          <a:blip r:embed="rId8"/>
          <a:stretch/>
        </p:blipFill>
        <p:spPr>
          <a:xfrm>
            <a:off x="5486400" y="4267080"/>
            <a:ext cx="190512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ребусы"/>
          <p:cNvPicPr/>
          <p:nvPr/>
        </p:nvPicPr>
        <p:blipFill>
          <a:blip r:embed="rId9"/>
          <a:stretch/>
        </p:blipFill>
        <p:spPr>
          <a:xfrm>
            <a:off x="7391520" y="4294080"/>
            <a:ext cx="1477800" cy="1824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ребусы"/>
          <p:cNvPicPr/>
          <p:nvPr/>
        </p:nvPicPr>
        <p:blipFill>
          <a:blip r:embed="rId10"/>
          <a:stretch/>
        </p:blipFill>
        <p:spPr>
          <a:xfrm>
            <a:off x="5664240" y="5896080"/>
            <a:ext cx="774720" cy="295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6442920" y="58579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= 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955760" y="48006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ребусы"/>
          <p:cNvPicPr/>
          <p:nvPr/>
        </p:nvPicPr>
        <p:blipFill>
          <a:blip r:embed="rId1"/>
          <a:stretch/>
        </p:blipFill>
        <p:spPr>
          <a:xfrm>
            <a:off x="2438280" y="2665440"/>
            <a:ext cx="914400" cy="134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ребусы"/>
          <p:cNvPicPr/>
          <p:nvPr/>
        </p:nvPicPr>
        <p:blipFill>
          <a:blip r:embed="rId2"/>
          <a:stretch/>
        </p:blipFill>
        <p:spPr>
          <a:xfrm>
            <a:off x="3519360" y="2630520"/>
            <a:ext cx="1451160" cy="1030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4566240" y="3660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ребусы"/>
          <p:cNvPicPr/>
          <p:nvPr/>
        </p:nvPicPr>
        <p:blipFill>
          <a:blip r:embed="rId3"/>
          <a:stretch/>
        </p:blipFill>
        <p:spPr>
          <a:xfrm>
            <a:off x="5334120" y="2587680"/>
            <a:ext cx="1600200" cy="1073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ребусы"/>
          <p:cNvPicPr/>
          <p:nvPr/>
        </p:nvPicPr>
        <p:blipFill>
          <a:blip r:embed="rId4"/>
          <a:stretch/>
        </p:blipFill>
        <p:spPr>
          <a:xfrm>
            <a:off x="5178600" y="2587680"/>
            <a:ext cx="155520" cy="125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ребусы"/>
          <p:cNvPicPr/>
          <p:nvPr/>
        </p:nvPicPr>
        <p:blipFill>
          <a:blip r:embed="rId5"/>
          <a:stretch/>
        </p:blipFill>
        <p:spPr>
          <a:xfrm>
            <a:off x="6934320" y="2209680"/>
            <a:ext cx="174600" cy="1451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ребусы"/>
          <p:cNvPicPr/>
          <p:nvPr/>
        </p:nvPicPr>
        <p:blipFill>
          <a:blip r:embed="rId6"/>
          <a:stretch/>
        </p:blipFill>
        <p:spPr>
          <a:xfrm>
            <a:off x="3657600" y="3732120"/>
            <a:ext cx="63648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4343760" y="3657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ребусы"/>
          <p:cNvPicPr/>
          <p:nvPr/>
        </p:nvPicPr>
        <p:blipFill>
          <a:blip r:embed="rId7"/>
          <a:stretch/>
        </p:blipFill>
        <p:spPr>
          <a:xfrm>
            <a:off x="990720" y="4648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омайские ребусы 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отгадайт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шифрованные сл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722600" y="61117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=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0" descr="ребусы"/>
          <p:cNvPicPr/>
          <p:nvPr/>
        </p:nvPicPr>
        <p:blipFill>
          <a:blip r:embed="rId8"/>
          <a:stretch/>
        </p:blipFill>
        <p:spPr>
          <a:xfrm>
            <a:off x="2598840" y="4633920"/>
            <a:ext cx="1166760" cy="1485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2" descr="ребусы"/>
          <p:cNvPicPr/>
          <p:nvPr/>
        </p:nvPicPr>
        <p:blipFill>
          <a:blip r:embed="rId9"/>
          <a:stretch/>
        </p:blipFill>
        <p:spPr>
          <a:xfrm>
            <a:off x="3968640" y="4637160"/>
            <a:ext cx="1111320" cy="1452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ребусы"/>
          <p:cNvPicPr/>
          <p:nvPr/>
        </p:nvPicPr>
        <p:blipFill>
          <a:blip r:embed="rId10"/>
          <a:stretch/>
        </p:blipFill>
        <p:spPr>
          <a:xfrm>
            <a:off x="3774960" y="6186600"/>
            <a:ext cx="663840" cy="295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4452120" y="61340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буква=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1814400" y="2936880"/>
            <a:ext cx="8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536400" y="51879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ребусы"/>
          <p:cNvPicPr/>
          <p:nvPr/>
        </p:nvPicPr>
        <p:blipFill>
          <a:blip r:embed="rId11"/>
          <a:stretch/>
        </p:blipFill>
        <p:spPr>
          <a:xfrm>
            <a:off x="1130400" y="6148440"/>
            <a:ext cx="588960" cy="29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ребусы"/>
          <p:cNvPicPr/>
          <p:nvPr/>
        </p:nvPicPr>
        <p:blipFill>
          <a:blip r:embed="rId12"/>
          <a:stretch/>
        </p:blipFill>
        <p:spPr>
          <a:xfrm>
            <a:off x="6410160" y="4749840"/>
            <a:ext cx="865440" cy="1361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5972040" y="50133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7167600" y="47498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779240" y="4282920"/>
            <a:ext cx="1233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514600" y="457200"/>
            <a:ext cx="5029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омайские ре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роверь себя» </a:t>
            </a:r>
            <a:br>
              <a:rPr sz="32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зашифрованные сл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922560" y="2057400"/>
            <a:ext cx="3070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О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User</cp:lastModifiedBy>
  <dcterms:modified xsi:type="dcterms:W3CDTF">2020-04-28T13:13:5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